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9708-0B3C-45CA-9937-CA5D62DBE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835B-BAEB-4663-8429-F399304B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3577-23C9-4A6E-B4A9-DC96379A8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9806-F5C0-4FAE-A951-7A4781486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F4CF-E055-4B61-9339-54377AB3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CA87-8FEE-4E35-B346-FB1FDB98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96A9-6344-4608-AEE1-A7B159E5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1D47-156C-48BE-A7F8-9726CDD9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602C-FD1E-4310-B22A-874D0C9E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E73C-749A-42C0-8771-CCD310EE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8064-A92C-4F20-95E0-C6A46CFB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0A2E-099E-40D1-95CB-67E1A91A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AA2B-7C5F-44D3-B660-EDD569820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5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696080" cy="65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ivviw</cp:lastModifiedBy>
  <dcterms:modified xsi:type="dcterms:W3CDTF">2016-04-09T13:36:38Z</dcterms:modified>
  <cp:revision>10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